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90D-EEB1-4DDC-ACB5-51B5AD23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937-185B-46F7-8EAF-8FEF5712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94C8-70B8-48F1-937B-D4D1F19B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387-0AD0-4D85-92C0-8B071189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9232-2044-49C5-B204-B108C6B2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E935-4D4D-4605-877C-81742F29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E884-0B44-4DC5-BC8C-4FF858FC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2A8F-42C9-40BF-A6BE-F90D0BD6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DCDD-2909-49B0-83E0-EFE24D87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A42E-DF09-48B4-9FBB-712C128B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1C29-78C5-446A-A9CD-7B51136D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530-EAAA-44C3-8FE7-78058E79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0F94-5BB6-4A49-A874-71EF63D8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C2D0-C7C3-427C-87B3-5B17B801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E200-3A96-4694-AD80-A6A49980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3626-C12E-45F6-A337-0E3C3D02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E66A-62D5-4D56-A143-8CCCDAD1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292-3F82-4191-BA92-2D3804FF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66B-8598-4A21-BBA8-845B494D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77F-F522-47C8-A4CC-21308034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D34-3E82-4015-8F39-E1C2411C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712-3AAF-4C52-9785-D3CD34E8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4C9-2856-47D7-BDB9-AF4D518F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203-D6A1-4256-8CB9-45D0C612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2AA6-7165-4558-8D4A-F9821A24B04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8BAF-ED6C-42EA-BED8-559A11DAC78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2287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tomic Stru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om Indivisible to Quantum Mechanical Model of the Ato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1224000" cy="110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6024-5115-4890-B2E5-870CA8F903E2}" type="slidenum">
              <a:t>1</a:t>
            </a:fld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hortfalls of Rutherford’s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d not explain where the atom’s negatively charged electrons are located in the space surrounding its positively charged nucleu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 know oppositely charged particles attract each oth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prevents the negative electrons from being drawn into the positive nucleu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EF9-D738-4146-8E02-18E5D993CC15}" type="slidenum">
              <a:t>10</a:t>
            </a:fld>
          </a:p>
        </p:txBody>
      </p:sp>
    </p:spTree>
  </p:cSld>
  <p:transition spd="med">
    <p:dissolve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oth dot diagrams and orbital diagrams will be use full to use when we begin our study of atomic bonding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 have been dealing with valence electrons since our initial studies of the 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number of valence electrons can be determined by reading the column numb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 = 3 valence electr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r = 7 valence electr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l transitions metals have 2 valence electron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404-9E82-4ED8-8935-6AD0F9928A53}" type="slidenum">
              <a:t>100</a:t>
            </a:fld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hr Model (191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els Bohr (1885-1962), Danish scientist working with Rutherfor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posed that electrons must have enough energy to keep them in constant motion around the nucle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alogous to the motion of the planets orbiting the su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295-F0A8-41D1-BCBE-FB034CF07D4E}" type="slidenum">
              <a:t>11</a:t>
            </a:fld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netary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planets are attracted to the sun by gravitational force, they move with enough energy to remain in stable orbits around the sun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ectrons have energy of motion that enables them to overcome the attraction for the positive nucle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E74-AB76-4919-A93F-830658D9E719}" type="slidenum">
              <a:t>12</a:t>
            </a:fld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ink about satellites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 launch a satellite into space with enough energy to orbit the eart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amount of energy it is given, determines how high it will orbi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 use energy from a rocket to boost our satellite, what energy do we give electrons to boost them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C44-DDA4-48BD-A6E3-ED040A919C7F}" type="slidenum">
              <a:t>13</a:t>
            </a:fld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ctronic Structure of Ato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aves-particle dua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hotoelectric effe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anck’s consta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ohr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Broglie equ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677-F682-45F4-A47D-E08CF6CACC1A}" type="slidenum">
              <a:t>14</a:t>
            </a:fld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adiant Ener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Radiation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the emission of energy in various for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A.K.A. Electromagnetic Radi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Radiant Energy travels in the form of waves that have both electrical and magnetic impuls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CF9-DCDD-4B09-80CB-3D8FF827AB08}" type="slidenum">
              <a:t>15</a:t>
            </a:fld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Electromagnetic Radiation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radiation that consists of wave-like electric and magnetic fields in space, including light, microwaves, radio signals, and x-ray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Electromagnetic waves can travel through empty space, at the speed of light (c=3.00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8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m/s) or about 300million m/s!!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6D4-2677-4040-B323-A03B474ED360}" type="slidenum">
              <a:t>16</a:t>
            </a:fld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v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Waves transfer energy from one place to anoth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Think about the damage done by waves during strong hurricanes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Think about placing a tennis ball in your bath tub, if you create waves at one it, that energy is transferred to the ball at the other = bobbin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Electromagnetic waves have the same characteristics as other wav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 flipH="1" rot="10800000">
            <a:off x="7010280" y="380880"/>
            <a:ext cx="122724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F95-DBC9-4063-9E77-5A6A7C21E715}" type="slidenum">
              <a:t>17</a:t>
            </a:fld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ve Characteris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4876920"/>
            <a:ext cx="7391520" cy="1218960"/>
          </a:xfrm>
          <a:custGeom>
            <a:avLst/>
            <a:gdLst/>
            <a:ahLst/>
            <a:rect l="l" t="t" r="r" b="b"/>
            <a:pathLst>
              <a:path w="3456" h="768">
                <a:moveTo>
                  <a:pt x="0" y="768"/>
                </a:moveTo>
                <a:cubicBezTo>
                  <a:pt x="192" y="384"/>
                  <a:pt x="384" y="0"/>
                  <a:pt x="576" y="0"/>
                </a:cubicBezTo>
                <a:cubicBezTo>
                  <a:pt x="768" y="0"/>
                  <a:pt x="960" y="768"/>
                  <a:pt x="1152" y="768"/>
                </a:cubicBezTo>
                <a:cubicBezTo>
                  <a:pt x="1344" y="768"/>
                  <a:pt x="1536" y="0"/>
                  <a:pt x="1728" y="0"/>
                </a:cubicBezTo>
                <a:cubicBezTo>
                  <a:pt x="1920" y="0"/>
                  <a:pt x="2112" y="768"/>
                  <a:pt x="2304" y="768"/>
                </a:cubicBezTo>
                <a:cubicBezTo>
                  <a:pt x="2496" y="768"/>
                  <a:pt x="2688" y="0"/>
                  <a:pt x="2880" y="0"/>
                </a:cubicBezTo>
                <a:cubicBezTo>
                  <a:pt x="3072" y="0"/>
                  <a:pt x="3400" y="600"/>
                  <a:pt x="3456" y="768"/>
                </a:cubicBezTo>
              </a:path>
            </a:pathLst>
          </a:custGeom>
          <a:noFill/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3048120"/>
            <a:ext cx="3657600" cy="1981080"/>
          </a:xfrm>
          <a:custGeom>
            <a:avLst/>
            <a:gdLst/>
            <a:ahLst/>
            <a:rect l="l" t="t" r="r" b="b"/>
            <a:pathLst>
              <a:path w="3456" h="768">
                <a:moveTo>
                  <a:pt x="0" y="768"/>
                </a:moveTo>
                <a:cubicBezTo>
                  <a:pt x="192" y="384"/>
                  <a:pt x="384" y="0"/>
                  <a:pt x="576" y="0"/>
                </a:cubicBezTo>
                <a:cubicBezTo>
                  <a:pt x="768" y="0"/>
                  <a:pt x="960" y="768"/>
                  <a:pt x="1152" y="768"/>
                </a:cubicBezTo>
                <a:cubicBezTo>
                  <a:pt x="1344" y="768"/>
                  <a:pt x="1536" y="0"/>
                  <a:pt x="1728" y="0"/>
                </a:cubicBezTo>
                <a:cubicBezTo>
                  <a:pt x="1920" y="0"/>
                  <a:pt x="2112" y="768"/>
                  <a:pt x="2304" y="768"/>
                </a:cubicBezTo>
                <a:cubicBezTo>
                  <a:pt x="2496" y="768"/>
                  <a:pt x="2688" y="0"/>
                  <a:pt x="2880" y="0"/>
                </a:cubicBezTo>
                <a:cubicBezTo>
                  <a:pt x="3072" y="0"/>
                  <a:pt x="3400" y="600"/>
                  <a:pt x="3456" y="768"/>
                </a:cubicBezTo>
              </a:path>
            </a:pathLst>
          </a:custGeom>
          <a:noFill/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9880" y="1603440"/>
            <a:ext cx="858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Wavelength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(lambda)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distance betwee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uccessive poin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114800" y="4800600"/>
            <a:ext cx="22096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3048120"/>
            <a:ext cx="9907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487692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0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3124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EC2-CC2D-4287-8ABC-03D41852C420}" type="slidenum">
              <a:t>18</a:t>
            </a:fld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ve Characteris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Frequency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(nu)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the number of complete wave cycles to pass a given point per unit of time; Cycles per secon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flipH="1" rot="10800000">
            <a:off x="7010280" y="380880"/>
            <a:ext cx="1227240" cy="1447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04920" y="5105520"/>
            <a:ext cx="4190760" cy="1066680"/>
          </a:xfrm>
          <a:custGeom>
            <a:avLst/>
            <a:gdLst/>
            <a:ahLst/>
            <a:rect l="l" t="t" r="r" b="b"/>
            <a:pathLst>
              <a:path w="3456" h="768">
                <a:moveTo>
                  <a:pt x="0" y="768"/>
                </a:moveTo>
                <a:cubicBezTo>
                  <a:pt x="192" y="384"/>
                  <a:pt x="384" y="0"/>
                  <a:pt x="576" y="0"/>
                </a:cubicBezTo>
                <a:cubicBezTo>
                  <a:pt x="768" y="0"/>
                  <a:pt x="960" y="768"/>
                  <a:pt x="1152" y="768"/>
                </a:cubicBezTo>
                <a:cubicBezTo>
                  <a:pt x="1344" y="768"/>
                  <a:pt x="1536" y="0"/>
                  <a:pt x="1728" y="0"/>
                </a:cubicBezTo>
                <a:cubicBezTo>
                  <a:pt x="1920" y="0"/>
                  <a:pt x="2112" y="768"/>
                  <a:pt x="2304" y="768"/>
                </a:cubicBezTo>
                <a:cubicBezTo>
                  <a:pt x="2496" y="768"/>
                  <a:pt x="2688" y="0"/>
                  <a:pt x="2880" y="0"/>
                </a:cubicBezTo>
                <a:cubicBezTo>
                  <a:pt x="3072" y="0"/>
                  <a:pt x="3400" y="600"/>
                  <a:pt x="3456" y="768"/>
                </a:cubicBezTo>
              </a:path>
            </a:pathLst>
          </a:custGeom>
          <a:noFill/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4952880"/>
            <a:ext cx="2057400" cy="1219320"/>
          </a:xfrm>
          <a:custGeom>
            <a:avLst/>
            <a:gdLst/>
            <a:ahLst/>
            <a:rect l="l" t="t" r="r" b="b"/>
            <a:pathLst>
              <a:path w="3456" h="768">
                <a:moveTo>
                  <a:pt x="0" y="768"/>
                </a:moveTo>
                <a:cubicBezTo>
                  <a:pt x="192" y="384"/>
                  <a:pt x="384" y="0"/>
                  <a:pt x="576" y="0"/>
                </a:cubicBezTo>
                <a:cubicBezTo>
                  <a:pt x="768" y="0"/>
                  <a:pt x="960" y="768"/>
                  <a:pt x="1152" y="768"/>
                </a:cubicBezTo>
                <a:cubicBezTo>
                  <a:pt x="1344" y="768"/>
                  <a:pt x="1536" y="0"/>
                  <a:pt x="1728" y="0"/>
                </a:cubicBezTo>
                <a:cubicBezTo>
                  <a:pt x="1920" y="0"/>
                  <a:pt x="2112" y="768"/>
                  <a:pt x="2304" y="768"/>
                </a:cubicBezTo>
                <a:cubicBezTo>
                  <a:pt x="2496" y="768"/>
                  <a:pt x="2688" y="0"/>
                  <a:pt x="2880" y="0"/>
                </a:cubicBezTo>
                <a:cubicBezTo>
                  <a:pt x="3072" y="0"/>
                  <a:pt x="3400" y="600"/>
                  <a:pt x="3456" y="768"/>
                </a:cubicBezTo>
              </a:path>
            </a:pathLst>
          </a:custGeom>
          <a:noFill/>
          <a:ln w="76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4572000"/>
            <a:ext cx="0" cy="1752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4572000"/>
            <a:ext cx="0" cy="19051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4572000"/>
            <a:ext cx="0" cy="1752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620120" y="4495680"/>
            <a:ext cx="0" cy="1828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5680" y="41464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29560" y="41464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=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29960" y="40705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82800" y="39942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=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35D-EF98-4844-9AC5-F3A6FB1124B1}" type="slidenum">
              <a:t>19</a:t>
            </a:fld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ic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mocrit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lt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oms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therfor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AAE1-A02E-492F-89C7-AAC557E4F5D4}" type="slidenum">
              <a:t>2</a:t>
            </a:fld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Units for Frequency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/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hertz, Hz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cause all electromagnetic waves travel at the speed of light, wavelength is determined by frequenc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w frequency = long wavelength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igh frequency = short wavelength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D9A7-2877-4D28-9560-EA14F3CFE382}" type="slidenum">
              <a:t>20</a:t>
            </a:fld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v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Amplitud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maximum height of a wa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 flipH="1" rot="10800000">
            <a:off x="7010280" y="380880"/>
            <a:ext cx="1227240" cy="1447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676520" y="4267080"/>
            <a:ext cx="5486400" cy="1828800"/>
          </a:xfrm>
          <a:custGeom>
            <a:avLst/>
            <a:gdLst/>
            <a:ahLst/>
            <a:rect l="l" t="t" r="r" b="b"/>
            <a:pathLst>
              <a:path w="3456" h="768">
                <a:moveTo>
                  <a:pt x="0" y="768"/>
                </a:moveTo>
                <a:cubicBezTo>
                  <a:pt x="192" y="384"/>
                  <a:pt x="384" y="0"/>
                  <a:pt x="576" y="0"/>
                </a:cubicBezTo>
                <a:cubicBezTo>
                  <a:pt x="768" y="0"/>
                  <a:pt x="960" y="768"/>
                  <a:pt x="1152" y="768"/>
                </a:cubicBezTo>
                <a:cubicBezTo>
                  <a:pt x="1344" y="768"/>
                  <a:pt x="1536" y="0"/>
                  <a:pt x="1728" y="0"/>
                </a:cubicBezTo>
                <a:cubicBezTo>
                  <a:pt x="1920" y="0"/>
                  <a:pt x="2112" y="768"/>
                  <a:pt x="2304" y="768"/>
                </a:cubicBezTo>
                <a:cubicBezTo>
                  <a:pt x="2496" y="768"/>
                  <a:pt x="2688" y="0"/>
                  <a:pt x="2880" y="0"/>
                </a:cubicBezTo>
                <a:cubicBezTo>
                  <a:pt x="3072" y="0"/>
                  <a:pt x="3400" y="600"/>
                  <a:pt x="3456" y="768"/>
                </a:cubicBezTo>
              </a:path>
            </a:pathLst>
          </a:custGeom>
          <a:noFill/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743200"/>
            <a:ext cx="5486400" cy="1219320"/>
          </a:xfrm>
          <a:custGeom>
            <a:avLst/>
            <a:gdLst/>
            <a:ahLst/>
            <a:rect l="l" t="t" r="r" b="b"/>
            <a:pathLst>
              <a:path w="3456" h="768">
                <a:moveTo>
                  <a:pt x="0" y="768"/>
                </a:moveTo>
                <a:cubicBezTo>
                  <a:pt x="192" y="384"/>
                  <a:pt x="384" y="0"/>
                  <a:pt x="576" y="0"/>
                </a:cubicBezTo>
                <a:cubicBezTo>
                  <a:pt x="768" y="0"/>
                  <a:pt x="960" y="768"/>
                  <a:pt x="1152" y="768"/>
                </a:cubicBezTo>
                <a:cubicBezTo>
                  <a:pt x="1344" y="768"/>
                  <a:pt x="1536" y="0"/>
                  <a:pt x="1728" y="0"/>
                </a:cubicBezTo>
                <a:cubicBezTo>
                  <a:pt x="1920" y="0"/>
                  <a:pt x="2112" y="768"/>
                  <a:pt x="2304" y="768"/>
                </a:cubicBezTo>
                <a:cubicBezTo>
                  <a:pt x="2496" y="768"/>
                  <a:pt x="2688" y="0"/>
                  <a:pt x="2880" y="0"/>
                </a:cubicBezTo>
                <a:cubicBezTo>
                  <a:pt x="3072" y="0"/>
                  <a:pt x="3400" y="600"/>
                  <a:pt x="3456" y="768"/>
                </a:cubicBezTo>
              </a:path>
            </a:pathLst>
          </a:custGeom>
          <a:noFill/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3352680"/>
            <a:ext cx="5638680" cy="0"/>
          </a:xfrm>
          <a:prstGeom prst="line">
            <a:avLst/>
          </a:prstGeom>
          <a:ln w="3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5181480"/>
            <a:ext cx="5638680" cy="0"/>
          </a:xfrm>
          <a:prstGeom prst="line">
            <a:avLst/>
          </a:prstGeom>
          <a:ln w="3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3400" y="28195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19720" y="434340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664-A946-482C-8877-E46546BC1ED2}" type="slidenum">
              <a:t>21</a:t>
            </a:fld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v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Nod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points of zero amplitud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 flipH="1" rot="10800000">
            <a:off x="7010280" y="380880"/>
            <a:ext cx="1227240" cy="1447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828800" y="3657600"/>
            <a:ext cx="5486400" cy="1219320"/>
          </a:xfrm>
          <a:custGeom>
            <a:avLst/>
            <a:gdLst/>
            <a:ahLst/>
            <a:rect l="l" t="t" r="r" b="b"/>
            <a:pathLst>
              <a:path w="3456" h="768">
                <a:moveTo>
                  <a:pt x="0" y="768"/>
                </a:moveTo>
                <a:cubicBezTo>
                  <a:pt x="192" y="384"/>
                  <a:pt x="384" y="0"/>
                  <a:pt x="576" y="0"/>
                </a:cubicBezTo>
                <a:cubicBezTo>
                  <a:pt x="768" y="0"/>
                  <a:pt x="960" y="768"/>
                  <a:pt x="1152" y="768"/>
                </a:cubicBezTo>
                <a:cubicBezTo>
                  <a:pt x="1344" y="768"/>
                  <a:pt x="1536" y="0"/>
                  <a:pt x="1728" y="0"/>
                </a:cubicBezTo>
                <a:cubicBezTo>
                  <a:pt x="1920" y="0"/>
                  <a:pt x="2112" y="768"/>
                  <a:pt x="2304" y="768"/>
                </a:cubicBezTo>
                <a:cubicBezTo>
                  <a:pt x="2496" y="768"/>
                  <a:pt x="2688" y="0"/>
                  <a:pt x="2880" y="0"/>
                </a:cubicBezTo>
                <a:cubicBezTo>
                  <a:pt x="3072" y="0"/>
                  <a:pt x="3400" y="600"/>
                  <a:pt x="3456" y="768"/>
                </a:cubicBezTo>
              </a:path>
            </a:pathLst>
          </a:custGeom>
          <a:noFill/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3809880"/>
            <a:ext cx="152280" cy="3812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200040" y="3733920"/>
            <a:ext cx="228600" cy="4572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4267080"/>
            <a:ext cx="51055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828800" y="3656520"/>
            <a:ext cx="5486400" cy="1219320"/>
          </a:xfrm>
          <a:custGeom>
            <a:avLst/>
            <a:gdLst/>
            <a:ahLst/>
            <a:rect l="l" t="t" r="r" b="b"/>
            <a:pathLst>
              <a:path w="3456" h="768">
                <a:moveTo>
                  <a:pt x="0" y="768"/>
                </a:moveTo>
                <a:cubicBezTo>
                  <a:pt x="192" y="384"/>
                  <a:pt x="384" y="0"/>
                  <a:pt x="576" y="0"/>
                </a:cubicBezTo>
                <a:cubicBezTo>
                  <a:pt x="768" y="0"/>
                  <a:pt x="960" y="768"/>
                  <a:pt x="1152" y="768"/>
                </a:cubicBezTo>
                <a:cubicBezTo>
                  <a:pt x="1344" y="768"/>
                  <a:pt x="1536" y="0"/>
                  <a:pt x="1728" y="0"/>
                </a:cubicBezTo>
                <a:cubicBezTo>
                  <a:pt x="1920" y="0"/>
                  <a:pt x="2112" y="768"/>
                  <a:pt x="2304" y="768"/>
                </a:cubicBezTo>
                <a:cubicBezTo>
                  <a:pt x="2496" y="768"/>
                  <a:pt x="2688" y="0"/>
                  <a:pt x="2880" y="0"/>
                </a:cubicBezTo>
                <a:cubicBezTo>
                  <a:pt x="3072" y="0"/>
                  <a:pt x="3400" y="600"/>
                  <a:pt x="3456" y="768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213-81C8-4452-BAF3-32DACAEB1339}" type="slidenum">
              <a:t>22</a:t>
            </a:fld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ctromagnetic Spectru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adio &amp; TV, microwaves, UV, infrared, visible light = all are examples of electromagnetic radiation (and radiant energ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ectromagnetic spectrum: entire range of electromagnetic radi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A151-6139-4FA6-9B39-FE5F47D8E6D2}" type="slidenum">
              <a:t>23</a:t>
            </a:fld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ctromagnetic Spectru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2362320"/>
            <a:ext cx="7315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4876920"/>
            <a:ext cx="73915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33720" y="2438280"/>
            <a:ext cx="0" cy="2438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2362320"/>
            <a:ext cx="0" cy="2514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57600" y="2362320"/>
            <a:ext cx="0" cy="2590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2362320"/>
            <a:ext cx="0" cy="2514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2362320"/>
            <a:ext cx="0" cy="2590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2362320"/>
            <a:ext cx="0" cy="2590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2362320"/>
            <a:ext cx="0" cy="2514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10280" y="2362320"/>
            <a:ext cx="0" cy="2514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198108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24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1981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18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16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14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87880" y="1981080"/>
            <a:ext cx="22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12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10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8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-1143000" y="32767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Gamma     Xrays      U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3352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Microwaves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FM  A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3505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4648320"/>
            <a:ext cx="0" cy="6094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58640" y="53341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isible Ligh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15200" y="1676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requency Hz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57680" y="4952880"/>
            <a:ext cx="55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-16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-9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-8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 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 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-3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68880" y="495288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avelength  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0C8-3C45-4E2F-BEB0-465D07B3D660}" type="slidenum">
              <a:t>24</a:t>
            </a:fld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igher-frequency electromagnetic waves have higher energy than lower-frequency electromagnetic wav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l forms of electromagnetic energy interact with matter, and the ability of these different waves to penetrate matter is a measure of the energy of the wav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AD35-8DEE-44F0-9387-37ECB4D8D88E}" type="slidenum">
              <a:t>25</a:t>
            </a:fld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your favorite radio station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adio stations are identified by their frequency in MHz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 know all electromagnetic radiation(which includes radio waves) travel at the speed of ligh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the wavelength of your favorite statio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02E-06AE-4E32-891A-C32EBEBE5401}" type="slidenum">
              <a:t>26</a:t>
            </a:fld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locity of a Wav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Velocity of a wave (m/s) = wavelength (m) x frequency (1/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c =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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= speed of light = 3.00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8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/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y favorite radio station is 105.9 Jamming Oldies!!!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the wavelength of this FM statio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ACC-8E7E-48E6-8DE4-ADEA0C8467EC}" type="slidenum">
              <a:t>27</a:t>
            </a:fld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velength of F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c  =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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= speed of light = 3.00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8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/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= 105.9MHz or 1.059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8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Hz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= c/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=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3.00x10</a:t>
            </a:r>
            <a:r>
              <a:rPr b="0" lang="en-US" sz="3200" spc="-1" strike="noStrike" u="sng" baseline="30000">
                <a:solidFill>
                  <a:srgbClr val="40458c"/>
                </a:solidFill>
                <a:uFillTx/>
                <a:latin typeface="Tahoma"/>
              </a:rPr>
              <a:t>8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m/s =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2.83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1.059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8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1/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A14-D4F9-4DD6-AC36-6A428D65E400}" type="slidenum">
              <a:t>28</a:t>
            </a:fld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What does the electromagnetic spectrum have to do with electrons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t’s all related to energy – energy  of motion(of electrons) and energy of ligh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9D4-2E8E-4E90-933A-ED16296E8201}" type="slidenum">
              <a:t>29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mocrit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irca 400 B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reek philosophe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uggested that all matter is composed of tiny, indivisible particles, called at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811-05A9-473B-8829-B0E5F1D39A94}" type="slidenum">
              <a:t>3</a:t>
            </a:fld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tes of Electr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en current is passed through a gas at a low pressure, the potential energy (energy due to position) of some of the gas atoms incre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round State: the lowest energy state of an at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cited State: a state in which the atom has a higher potential energy than it had in its ground sta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1CE-7E29-4B8C-B277-7FAF8F39B08D}" type="slidenum">
              <a:t>30</a:t>
            </a:fld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on Sig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an excited atom returns to its ground state it gives off the energy it gained in the form of electromagnetic radiation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glow of neon signs,is an example of this proce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306-9DB6-4DDD-BB29-15A6380B0306}" type="slidenum">
              <a:t>31</a:t>
            </a:fld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ite Ligh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ite light is composed of all of the colors of the spectrum = ROY G BIV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white light is passed through a prism, the light is separated into a spectrum, of all the colo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are rainbow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0DD-422B-4A91-9CA3-70BDD5C91142}" type="slidenum">
              <a:t>32</a:t>
            </a:fld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e-emission Spectru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an electric current is passed through a vacuum tube containing H</a:t>
            </a:r>
            <a:r>
              <a:rPr b="0" lang="en-US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gas at low pressure, and emission of a pinkish glow is observe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do you think happens when that pink glow is passed through a prism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682-60E0-42AB-8303-FC3BEF52D947}" type="slidenum">
              <a:t>33</a:t>
            </a:fld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ydrogen’s Emission Spectru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pink light consisted of just a few specific frequencies, not the whole range of colors as with white ligh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cientists had expected to see a continuous range of frequencies of electromagnetic radiation, because the hydrogen atoms were excited by whatever amount of energy was added to the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d to a new theory of the at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F3C-31F0-4442-8508-825641F3B2DD}" type="slidenum">
              <a:t>34</a:t>
            </a:fld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hr’s Model of Hydrogen Ato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ydrogen did not produce a continuous spectru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 model was neede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ectrons can circle the nucleus only in allowed paths or orbi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en an e- is in one of these orbits, the atom has a fixed, definite energ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- and hydrogen atom are in its lowest energy state when it is in the orbit closest to the nucle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365-4C82-4FF4-83D1-95EA575F6A59}" type="slidenum">
              <a:t>35</a:t>
            </a:fld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hr Model Continued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rbits are separated by empty space, where e- cannot ex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ergy of e- increases as it moves to orbits farther and farther from the nucle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(Similar to a person climbing a ladde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7AC-66DE-4F02-A0C0-8A02DB7D97B0}" type="slidenum">
              <a:t>36</a:t>
            </a:fld>
          </a:p>
        </p:txBody>
      </p: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hr Model and Hydrogen Spectru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ile in orbit, e- can neither gain or lose ener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ut, e- can gain energy equal to the difference between higher and lower orbitals, and therefore move to the higher orbital (Absorptio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e- falls from higher state to lower state, energy is emitted (Emissio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2BED-4E4D-4598-A2BF-5AEEEC56094A}" type="slidenum">
              <a:t>37</a:t>
            </a:fld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hr’s Calcul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ed on the wavelengths of hydrogen’s line-emission spectrum, Bohr calculated the energies that an e- would have in the allowed energy levels for the hydrogen ato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3AF9-BF2E-4C96-9542-FB6177559190}" type="slidenum">
              <a:t>38</a:t>
            </a:fld>
          </a:p>
        </p:txBody>
      </p:sp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hotoelectric Effe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 observed phenomenon, early 1900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en light was shone on a metal, electrons were emitted from that me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ght was known to be a form of energy, capable of knocking loose an electron from a me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refore, light of any frequency could supply enough energy to eject an electr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3BC-8D31-4213-A667-FEDEC599F021}" type="slidenum">
              <a:t>39</a:t>
            </a:fld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alton’s Atomic Theory (1808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ll matter is made of tiny indivisible particles called atoms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toms of the same element are identical. The atoms of any one element are different from those of any other elemen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toms of different elements can combine with one another in simple whole number ratios to form compound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Chemical reactions occur when atoms are separated, joined, or rearranged;however, atoms of one element are not changed into atoms of another by a chemical react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79B-FB7C-44AB-8236-02F39D32D437}" type="slidenum">
              <a:t>4</a:t>
            </a:fld>
          </a:p>
        </p:txBody>
      </p:sp>
    </p:spTree>
  </p:cSld>
  <p:transition spd="med"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hotoelectric Effect pg. 9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ight strikes the surface of a metal (cathode), and e- are ejecte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These ejected e- move from the cathode to the anode, and current flows in the cel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minimum frequency of light is used.  If the frequency is above the minimum and the intensity of the light is increased, more e- are ejecte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75F-ED3E-40BB-98D6-954A7C8F0FFB}" type="slidenum">
              <a:t>40</a:t>
            </a:fld>
          </a:p>
        </p:txBody>
      </p:sp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hotoelectric Effe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served: For a given metal, no electrons were emitted if the light’s frequency was below a certain minimum, no matter how long the light was sho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y does the light have to be of a minimum frequency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5D6-172F-472B-9C72-FBA3C46C8324}" type="slidenum">
              <a:t>41</a:t>
            </a:fld>
          </a:p>
        </p:txBody>
      </p:sp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planation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x Planck studied the emission of light by hot objec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posed: objects emit energy in small, specific amounts = quan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Differs from wave theory which would say objects emit electromagnetic radiation continuousl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antum: is the minimum quantity of energy that can be lost or gained by an atom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ABF-6DEC-465A-91B1-370BCC6CADEF}" type="slidenum">
              <a:t>42</a:t>
            </a:fld>
          </a:p>
        </p:txBody>
      </p:sp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nck’s Eq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E </a:t>
            </a:r>
            <a:r>
              <a:rPr b="0" lang="en-US" sz="3200" spc="-1" strike="noStrike" baseline="-30000">
                <a:solidFill>
                  <a:srgbClr val="40458c"/>
                </a:solidFill>
                <a:latin typeface="Tahoma"/>
                <a:ea typeface="Times New Roman"/>
              </a:rPr>
              <a:t>radiation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= Planck’s constant x frequency of radi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E = h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h = Planck’s constant = 6.626 x 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-34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J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•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When an object emits radiation, there must be a minimum quantity of energy that can be emitted at any given tim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304-66CC-47FD-9F3B-A69AAA39AC9B}" type="slidenum">
              <a:t>43</a:t>
            </a:fld>
          </a:p>
        </p:txBody>
      </p:sp>
    </p:spTree>
  </p:cSld>
  <p:transition spd="med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instein Expands Planck’s Theo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orized that electromagnetic radiation had a dual wave-particle nature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haves like waves and partic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nk of light as particles that each carry one quantum of energy =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phot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8E5-4E3A-4D9F-8774-3129252B524F}" type="slidenum">
              <a:t>44</a:t>
            </a:fld>
          </a:p>
        </p:txBody>
      </p:sp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hot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hotons: a particle of electromagnetic radiation having zero mass and carrying a quantum of ener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en-US" sz="3200" spc="-1" strike="noStrike" baseline="-25000">
                <a:solidFill>
                  <a:srgbClr val="40458c"/>
                </a:solidFill>
                <a:latin typeface="Tahoma"/>
              </a:rPr>
              <a:t>photon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h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54E2-77FC-4EFE-B06E-B05819C9C6E2}" type="slidenum">
              <a:t>45</a:t>
            </a:fld>
          </a:p>
        </p:txBody>
      </p:sp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ck to Photoelectric Effe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instein concluded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ectromagnetic radiation is absorbed by matter only in whole numbers of phot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order for an e- to be ejected, the e- must be struck by a single photon with minimum frequenc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BBE-950D-4AF5-BD77-6702414A4F16}" type="slidenum">
              <a:t>46</a:t>
            </a:fld>
          </a:p>
        </p:txBody>
      </p:sp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 of Planck’s Eq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CD players use lasers that emit red light with a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of 685 nm.  Calculate the energy of one phot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erent metals require different minimum frequencies to exhibit photoelectric eff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367-6552-4589-BDF0-6D631817AC7B}" type="slidenum">
              <a:t>47</a:t>
            </a:fld>
          </a:p>
        </p:txBody>
      </p:sp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Tahoma"/>
              </a:rPr>
              <a:t>photo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=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h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h = Planck’s constant = 6.626 x 10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-34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J</a:t>
            </a:r>
            <a:r>
              <a:rPr b="0" lang="en-US" sz="1600" spc="-1" strike="noStrike" baseline="30000">
                <a:solidFill>
                  <a:srgbClr val="40458c"/>
                </a:solidFill>
                <a:latin typeface="Tahoma"/>
              </a:rPr>
              <a:t>•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c  = 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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= speed of light = 3.00x10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8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/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= (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00x10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8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/s)/(6.85x10-7m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=4.37x10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14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/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Tahoma"/>
              </a:rPr>
              <a:t>photo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= (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6.626 x 10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-34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J</a:t>
            </a:r>
            <a:r>
              <a:rPr b="0" lang="en-US" sz="1600" spc="-1" strike="noStrike" baseline="30000">
                <a:solidFill>
                  <a:srgbClr val="40458c"/>
                </a:solidFill>
                <a:latin typeface="Tahoma"/>
              </a:rPr>
              <a:t>•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)(4.37x10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14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/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Tahoma"/>
              </a:rPr>
              <a:t>photon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= 2.90 x 10</a:t>
            </a:r>
            <a:r>
              <a:rPr b="1" lang="en-US" sz="2800" spc="-1" strike="noStrike" baseline="30000">
                <a:solidFill>
                  <a:srgbClr val="40458c"/>
                </a:solidFill>
                <a:latin typeface="Tahoma"/>
              </a:rPr>
              <a:t>-19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844-54C5-4C38-9B44-2D73E101FEAC}" type="slidenum">
              <a:t>48</a:t>
            </a:fld>
          </a:p>
        </p:txBody>
      </p:sp>
    </p:spTree>
  </p:cSld>
  <p:transition spd="med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ve Nature of Electron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 know electrons behave as partic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 1925, Louis de Broglie suggested that electrons might also display wave propert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C8B-BCED-4FB7-88ED-F849C8A7B313}" type="slidenum">
              <a:t>49</a:t>
            </a:fld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J.J. Thomson (1897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termined the charge to mass ratio for electr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pplied electric and magnetic fields to cathode ray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 pudding” model of the ato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0" name="model" descr=""/>
          <p:cNvPicPr/>
          <p:nvPr/>
        </p:nvPicPr>
        <p:blipFill>
          <a:blip r:embed="rId4"/>
          <a:stretch/>
        </p:blipFill>
        <p:spPr>
          <a:xfrm>
            <a:off x="1828800" y="4724280"/>
            <a:ext cx="4876920" cy="192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AD2F-FBA0-4E05-8B1C-C1498749A711}" type="slidenum">
              <a:t>5</a:t>
            </a:fld>
          </a:p>
        </p:txBody>
      </p:sp>
    </p:spTree>
  </p:cSld>
  <p:transition spd="med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 Broglie’s Eq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A free e- of mass (m) moving with a velocity (v) should have an associated wavelength: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= h/mv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Linked particle properties (m and v) with a wave property (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43E-AE62-4723-9635-FA2EE9F45293}" type="slidenum">
              <a:t>50</a:t>
            </a:fld>
          </a:p>
        </p:txBody>
      </p:sp>
    </p:spTree>
  </p:cSld>
  <p:transition spd="med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 of de Broglie’s Eq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Calculate the wavelength associated with an e- of mass 9.109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-28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g traveling at 40.0% the speed of light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1 J = 1 kg m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/s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94F-D65B-4133-AAEA-250709BE2ECA}" type="slidenum">
              <a:t>51</a:t>
            </a:fld>
          </a:p>
        </p:txBody>
      </p:sp>
    </p:spTree>
  </p:cSld>
  <p:transition spd="med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=(3.00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/s)(.40)=1.2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/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= h/mv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=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(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6.626 x 10</a:t>
            </a:r>
            <a:r>
              <a:rPr b="0" lang="en-US" sz="3200" spc="-1" strike="noStrike" u="sng" baseline="30000">
                <a:solidFill>
                  <a:srgbClr val="40458c"/>
                </a:solidFill>
                <a:uFillTx/>
                <a:latin typeface="Tahoma"/>
                <a:ea typeface="Times New Roman"/>
              </a:rPr>
              <a:t>-34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 J</a:t>
            </a:r>
            <a:r>
              <a:rPr b="0" lang="en-US" sz="1800" spc="-1" strike="noStrike" u="sng" baseline="30000">
                <a:solidFill>
                  <a:srgbClr val="40458c"/>
                </a:solidFill>
                <a:uFillTx/>
                <a:latin typeface="Tahoma"/>
              </a:rPr>
              <a:t>•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s) 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=6.06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-12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9.11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-31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kg)(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.2x10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/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Remember 1J = 1(kg)(m)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/s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02C-4DFB-4A77-9FF3-9D9FB0FF5B44}" type="slidenum">
              <a:t>52</a:t>
            </a:fld>
          </a:p>
        </p:txBody>
      </p:sp>
    </p:spTree>
  </p:cSld>
  <p:transition spd="med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ve-Particle Dua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de Broglie’s experiments suggested that e- has wave-like properties.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Thomson’s experiments suggested that e- has particle-like propertie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measured charge-to-mass rat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D13-9D0F-4545-A730-CC909E69E913}" type="slidenum">
              <a:t>53</a:t>
            </a:fld>
          </a:p>
        </p:txBody>
      </p:sp>
    </p:spTree>
  </p:cSld>
  <p:transition spd="med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mechanical model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h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Ö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ng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eisenber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u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und</a:t>
            </a:r>
            <a:br>
              <a:rPr sz="3200"/>
            </a:b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BE5-400C-4D11-B985-03D4CF2DFC20}" type="slidenum">
              <a:t>54</a:t>
            </a:fld>
          </a:p>
        </p:txBody>
      </p:sp>
    </p:spTree>
  </p:cSld>
  <p:transition spd="med"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ere are the e- in the atom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 have a dual wave-particle na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e- act like waves and particles at the same time, where are they in the atom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rst consider a theory by German theoretical physicist, Werner Heisenber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3BD-787C-4CE2-A637-050647EAD4B2}" type="slidenum">
              <a:t>55</a:t>
            </a:fld>
          </a:p>
        </p:txBody>
      </p:sp>
    </p:spTree>
  </p:cSld>
  <p:transition spd="med"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eisenberg’s Ide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 are detected by their interactions with phot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hotons have about the same energy as e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y attempt to locate a specific e- with a photon knocks the e- off its cour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WAYS a basic uncertainty in trying to locate an e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CB2-DE8B-434F-9F5F-7E354930527E}" type="slidenum">
              <a:t>56</a:t>
            </a:fld>
          </a:p>
        </p:txBody>
      </p:sp>
    </p:spTree>
  </p:cSld>
  <p:transition spd="med"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eisenberg’s Uncertainty Princi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Impossible to determine both the position and the momentum of an e- in an atom simultaneously with great certaint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3EE-7E4D-40C8-9ABE-3AFB3AF8EEB6}" type="slidenum">
              <a:t>57</a:t>
            </a:fld>
          </a:p>
        </p:txBody>
      </p:sp>
    </p:spTree>
  </p:cSld>
  <p:transition spd="med"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h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Ö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nger’s Wave Eq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 equation that treated electrons in atoms as wav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nly waves of specific energies, and therefore frequencies, provided solutions to the equ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antization of e- energies was a natural outcom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D40A-8532-4BD6-9177-AC21AFDF8BD2}" type="slidenum">
              <a:t>58</a:t>
            </a:fld>
          </a:p>
        </p:txBody>
      </p:sp>
    </p:spTree>
  </p:cSld>
  <p:transition spd="med"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h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Ö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nger’s Wave Eq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s are known as wave func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ave functions give ONLY the probability of finding and e- at a given place around the nucle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 not in neat orbits, but exist in regions called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orbit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CEF-7349-40A7-92B4-9E0CA77C41E3}" type="slidenum">
              <a:t>59</a:t>
            </a:fld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therford’s Gold Foil Experiment (1910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pha particles (positively charged helium ions) from a radioactive source was directed toward a very thin gold foi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fluorescent screen was placed behind the Au foil to detect the scattering of alpha (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) particl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7F0-C87B-45F9-BA57-04D1CB6BB385}" type="slidenum">
              <a:t>6</a:t>
            </a:fld>
          </a:p>
        </p:txBody>
      </p:sp>
    </p:spTree>
  </p:cSld>
  <p:transition spd="med"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h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Ö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nger’s Wave Eq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ere is the equ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n’t memorize this or write it dow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is a differential equation, and we need calculus to solve i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     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-h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(</a:t>
            </a:r>
            <a:r>
              <a:rPr b="0" i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ә</a:t>
            </a:r>
            <a:r>
              <a:rPr b="0" i="1" lang="en-US" sz="2800" spc="-1" strike="noStrike" u="sng" baseline="30000">
                <a:solidFill>
                  <a:srgbClr val="40458c"/>
                </a:solidFill>
                <a:uFillTx/>
                <a:latin typeface="Tahoma"/>
              </a:rPr>
              <a:t>2</a:t>
            </a:r>
            <a:r>
              <a:rPr b="0" i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 Ψ )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i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 (ә</a:t>
            </a:r>
            <a:r>
              <a:rPr b="0" i="1" lang="en-US" sz="2800" spc="-1" strike="noStrike" u="sng" baseline="30000">
                <a:solidFill>
                  <a:srgbClr val="40458c"/>
                </a:solidFill>
                <a:uFillTx/>
                <a:latin typeface="Tahoma"/>
              </a:rPr>
              <a:t>2</a:t>
            </a:r>
            <a:r>
              <a:rPr b="0" i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Ψ )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+(</a:t>
            </a:r>
            <a:r>
              <a:rPr b="0" i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 ә</a:t>
            </a:r>
            <a:r>
              <a:rPr b="0" i="1" lang="en-US" sz="2800" spc="-1" strike="noStrike" u="sng" baseline="30000">
                <a:solidFill>
                  <a:srgbClr val="40458c"/>
                </a:solidFill>
                <a:uFillTx/>
                <a:latin typeface="Tahoma"/>
              </a:rPr>
              <a:t>2</a:t>
            </a:r>
            <a:r>
              <a:rPr b="0" i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Ψ )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 +Vψ =Eψ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8(</a:t>
            </a:r>
            <a:r>
              <a:rPr b="0" lang="el-GR" sz="2800" spc="-1" strike="noStrike">
                <a:solidFill>
                  <a:srgbClr val="40458c"/>
                </a:solidFill>
                <a:latin typeface="Tahoma"/>
              </a:rPr>
              <a:t>π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     (әx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)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(әy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)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(әz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cary?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3010-D52C-485E-B660-44A908238F9B}" type="slidenum">
              <a:t>60</a:t>
            </a:fld>
          </a:p>
        </p:txBody>
      </p:sp>
    </p:spTree>
  </p:cSld>
  <p:transition spd="med"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bability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likelihoo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rbital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wave function; region in space where the probability of finding an electron is hig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h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Ö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nger’s Wave Equation states that orbitals have quantized energ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ut there are other characteristics to describe orbitals besides ener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5D7-3683-4442-922B-09F2A93BB7F6}" type="slidenum">
              <a:t>61</a:t>
            </a:fld>
          </a:p>
        </p:txBody>
      </p:sp>
    </p:spTree>
  </p:cSld>
  <p:transition spd="med"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ition: specify the properties of atomic orbitals and the properties of electrons in orbit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re are four quantum numb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first three are results from Sch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Ö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nger’s Wave Equation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64B-93A8-4C3A-8A18-05E06E5A305B}" type="slidenum">
              <a:t>62</a:t>
            </a:fld>
          </a:p>
        </p:txBody>
      </p:sp>
    </p:spTree>
  </p:cSld>
  <p:transition spd="med"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ncipal Quantum Number, 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13D-23EE-4555-8BE9-77FAC1CC86A6}" type="slidenum">
              <a:t>63</a:t>
            </a:fld>
          </a:p>
        </p:txBody>
      </p:sp>
    </p:spTree>
  </p:cSld>
  <p:transition spd="med"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ncipal Quantum Number, 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lues of n = 1,2,3,… 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sitive integers only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dicates the main energy level occupied by the electr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046-49CD-4904-B973-649AD6B848EB}" type="slidenum">
              <a:t>64</a:t>
            </a:fld>
          </a:p>
        </p:txBody>
      </p:sp>
    </p:spTree>
  </p:cSld>
  <p:transition spd="med"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ncipal Quantum Number, 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lues of n = 1,2,3,… 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scribes the energy level, orbital siz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0C5B-78A2-43AD-9BF8-0BE3C238904D}" type="slidenum">
              <a:t>65</a:t>
            </a:fld>
          </a:p>
        </p:txBody>
      </p:sp>
    </p:spTree>
  </p:cSld>
  <p:transition spd="med"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ncipal Quantum Number, 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lues of n = 1,2,3,… 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scribes the energy level, orbital siz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 n increases, orbital size incre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8F1-C72E-456A-B07F-AB880C5659D2}" type="slidenum">
              <a:t>66</a:t>
            </a:fld>
          </a:p>
        </p:txBody>
      </p:sp>
    </p:spTree>
  </p:cSld>
  <p:transition spd="med"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le Quantum Numb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914400" y="1599840"/>
            <a:ext cx="0" cy="44197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14400" y="5791320"/>
            <a:ext cx="32004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3657600"/>
            <a:ext cx="32004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90720" y="2743200"/>
            <a:ext cx="31240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90720" y="2438280"/>
            <a:ext cx="30477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2133720"/>
            <a:ext cx="31240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90720" y="1828800"/>
            <a:ext cx="31240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47200" y="5442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 = 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052520" y="330840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=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068360" y="243828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=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36760" y="205740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=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24160" y="175248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=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24160" y="144792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=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-23040" y="32767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7A1-FB9A-4DA8-B9BF-E29EA5A0A47B}" type="slidenum">
              <a:t>67</a:t>
            </a:fld>
          </a:p>
        </p:txBody>
      </p:sp>
    </p:spTree>
  </p:cSld>
  <p:transition spd="med"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le Quantum Numb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re than one e- can have the same n valu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se e- are said to be in the same e- shel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total number of orbitals that exist in a given shell = n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DE5-A0D9-4062-A741-A812163B979A}" type="slidenum">
              <a:t>68</a:t>
            </a:fld>
          </a:p>
        </p:txBody>
      </p:sp>
    </p:spTree>
  </p:cSld>
  <p:transition spd="med"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gular momentum quantum number, </a:t>
            </a:r>
            <a:r>
              <a:rPr b="0" i="1" lang="en-US" sz="3600" spc="-1" strike="noStrike">
                <a:solidFill>
                  <a:srgbClr val="40458c"/>
                </a:solidFill>
                <a:latin typeface="Bookman Old Style"/>
              </a:rPr>
              <a:t>l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E95-4EB5-4C55-92B5-B9A1AE0685BC}" type="slidenum">
              <a:t>69</a:t>
            </a:fld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828800" y="6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gold" descr=""/>
          <p:cNvPicPr/>
          <p:nvPr/>
        </p:nvPicPr>
        <p:blipFill>
          <a:blip r:embed="rId1"/>
          <a:stretch/>
        </p:blipFill>
        <p:spPr>
          <a:xfrm>
            <a:off x="1828800" y="604800"/>
            <a:ext cx="5486400" cy="564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5DA-CE67-41C6-93B7-7616E7383D8B}" type="slidenum">
              <a:t>7</a:t>
            </a:fld>
          </a:p>
        </p:txBody>
      </p:sp>
    </p:spTree>
  </p:cSld>
  <p:transition spd="med"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gular momentum quantum number, </a:t>
            </a:r>
            <a:r>
              <a:rPr b="0" i="1" lang="en-US" sz="3600" spc="-1" strike="noStrike">
                <a:solidFill>
                  <a:srgbClr val="40458c"/>
                </a:solidFill>
                <a:latin typeface="Bookman Old Style"/>
              </a:rPr>
              <a:t>l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ues of 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= n-1, 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AB6-717A-4730-BFB3-094487DFEAE2}" type="slidenum">
              <a:t>70</a:t>
            </a:fld>
          </a:p>
        </p:txBody>
      </p:sp>
    </p:spTree>
  </p:cSld>
  <p:transition spd="med"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gular momentum quantum number, </a:t>
            </a:r>
            <a:r>
              <a:rPr b="0" i="1" lang="en-US" sz="3600" spc="-1" strike="noStrike">
                <a:solidFill>
                  <a:srgbClr val="40458c"/>
                </a:solidFill>
                <a:latin typeface="Bookman Old Style"/>
              </a:rPr>
              <a:t>l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ues of 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= n-1, 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scribes the orbital shap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E79-331F-4276-82D6-A3A107E1726C}" type="slidenum">
              <a:t>71</a:t>
            </a:fld>
          </a:p>
        </p:txBody>
      </p:sp>
    </p:spTree>
  </p:cSld>
  <p:transition spd="med"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gular momentum quantum number, </a:t>
            </a:r>
            <a:r>
              <a:rPr b="0" i="1" lang="en-US" sz="3600" spc="-1" strike="noStrike">
                <a:solidFill>
                  <a:srgbClr val="40458c"/>
                </a:solidFill>
                <a:latin typeface="Bookman Old Style"/>
              </a:rPr>
              <a:t>l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ues of 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= n-1, 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scribes the orbital shap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dicates the number of sublevel (subshell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(except for the 1</a:t>
            </a:r>
            <a:r>
              <a:rPr b="0" i="1" lang="en-US" sz="3200" spc="-1" strike="noStrike" baseline="30000">
                <a:solidFill>
                  <a:srgbClr val="40458c"/>
                </a:solidFill>
                <a:latin typeface="Bookman Old Style"/>
              </a:rPr>
              <a:t>st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 main energy level, orbitals of different shapes are known as sublevels or subshell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FE2-8269-4BD5-B9F7-7AA2BC8F6E32}" type="slidenum">
              <a:t>72</a:t>
            </a:fld>
          </a:p>
        </p:txBody>
      </p:sp>
    </p:spTree>
  </p:cSld>
  <p:transition spd="med"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bital Shap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r a specific main energy level, the number of orbital shapes possible is equal to 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Values of </a:t>
            </a:r>
            <a:r>
              <a:rPr b="0" i="1" lang="en-US" sz="3600" spc="-1" strike="noStrike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= n-1, 0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Ex. Orbital which n=2, can have one of two shapes corresponding to l = 0 or l=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pending on its value of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an orbital is assigned a lette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E6B5-7979-48EA-9712-1073632ECBEB}" type="slidenum">
              <a:t>73</a:t>
            </a:fld>
          </a:p>
        </p:txBody>
      </p:sp>
    </p:spTree>
  </p:cSld>
  <p:transition spd="med"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bital Shape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gular magnetic quantum number, 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= 0, then the orbital is labeled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is spherica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40B-7157-454F-8855-8BB2C6829253}" type="slidenum">
              <a:t>74</a:t>
            </a:fld>
          </a:p>
        </p:txBody>
      </p:sp>
    </p:spTree>
  </p:cSld>
  <p:transition spd="med"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bital Shap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= 1, then the orbital is labeled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umbbell” shap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3A92-9D62-4C4B-A086-E8D664D80E58}" type="slidenum">
              <a:t>75</a:t>
            </a:fld>
          </a:p>
        </p:txBody>
      </p:sp>
    </p:spTree>
  </p:cSld>
  <p:transition spd="med">
    <p:dissolv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bital Shap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= 2, the orbital is labeled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uble dumbbell” or four-leaf clov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376-FD38-4B3D-8B8D-BE66B93C8F21}" type="slidenum">
              <a:t>76</a:t>
            </a:fld>
          </a:p>
        </p:txBody>
      </p:sp>
    </p:spTree>
  </p:cSld>
  <p:transition spd="med">
    <p:dissolv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bital Shap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= 3, then the orbital is labeled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D34-6055-465F-BD17-D0FBE090999E}" type="slidenum">
              <a:t>77</a:t>
            </a:fld>
          </a:p>
        </p:txBody>
      </p:sp>
    </p:spTree>
  </p:cSld>
  <p:transition spd="med">
    <p:dissolv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ergy Level and Orbit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=1, only s orbit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=2, s and p orbit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=3, s, p, and d orbit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=4, s,p,d and f orbit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member: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l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= n-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EDD-C841-4308-8C77-4AA60C3A9DAD}" type="slidenum">
              <a:t>78</a:t>
            </a:fld>
          </a:p>
        </p:txBody>
      </p:sp>
    </p:spTree>
  </p:cSld>
  <p:transition spd="med">
    <p:dissolv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tomic Orbit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tomic Orbitals are designated by the principal quantum number followed by letter of their subshel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. 1s = s orbital in 1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ain energy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. 4d = d sublevel in 4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ain energy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571-9E12-4D21-BE06-D047ADC58B2D}" type="slidenum">
              <a:t>79</a:t>
            </a:fld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therford’s Gold Foil Experiment (Observation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st of the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particles passed through the foi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ny of the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particles deflected at various angl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urprisingly, a few particles were deflected back from the Au foi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EBBB-2C41-4746-859B-5F91202C428C}" type="slidenum">
              <a:t>8</a:t>
            </a:fld>
          </a:p>
        </p:txBody>
      </p:sp>
    </p:spTree>
  </p:cSld>
  <p:transition spd="med">
    <p:dissolv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gnetic Quantum Number, m</a:t>
            </a:r>
            <a:r>
              <a:rPr b="0" i="1" lang="en-US" sz="3600" spc="-1" strike="noStrike" baseline="-25000">
                <a:solidFill>
                  <a:srgbClr val="40458c"/>
                </a:solidFill>
                <a:latin typeface="Bookman Old Style"/>
              </a:rPr>
              <a:t>l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36F-3C90-4572-8A8B-54D86EC0FE3B}" type="slidenum">
              <a:t>80</a:t>
            </a:fld>
          </a:p>
        </p:txBody>
      </p:sp>
    </p:spTree>
  </p:cSld>
  <p:transition spd="med">
    <p:dissolv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gnetic Quantum Number, m</a:t>
            </a:r>
            <a:r>
              <a:rPr b="0" i="1" lang="en-US" sz="3600" spc="-1" strike="noStrike" baseline="-25000">
                <a:solidFill>
                  <a:srgbClr val="40458c"/>
                </a:solidFill>
                <a:latin typeface="Bookman Old Style"/>
              </a:rPr>
              <a:t>l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ues of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</a:t>
            </a:r>
            <a:r>
              <a:rPr b="0" i="1" lang="en-US" sz="3200" spc="-1" strike="noStrike" baseline="-25000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= +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…0…-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2C6-F3DE-4F6E-9D7E-512B637E6CD7}" type="slidenum">
              <a:t>81</a:t>
            </a:fld>
          </a:p>
        </p:txBody>
      </p:sp>
    </p:spTree>
  </p:cSld>
  <p:transition spd="med">
    <p:dissolv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gnetic Quantum Number, m</a:t>
            </a:r>
            <a:r>
              <a:rPr b="0" i="1" lang="en-US" sz="3600" spc="-1" strike="noStrike" baseline="-25000">
                <a:solidFill>
                  <a:srgbClr val="40458c"/>
                </a:solidFill>
                <a:latin typeface="Bookman Old Style"/>
              </a:rPr>
              <a:t>l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ues of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</a:t>
            </a:r>
            <a:r>
              <a:rPr b="0" i="1" lang="en-US" sz="3200" spc="-1" strike="noStrike" baseline="-25000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= +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…0…-</a:t>
            </a:r>
            <a:r>
              <a:rPr b="0" i="1" lang="en-US" sz="3200" spc="-1" strike="noStrike">
                <a:solidFill>
                  <a:srgbClr val="40458c"/>
                </a:solidFill>
                <a:latin typeface="Bookman Old Style"/>
              </a:rPr>
              <a:t>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scribes the orientation of the orbital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tomic orbitals can have the same shape but different orienta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504-7488-455C-B6AF-2FE81EEBE382}" type="slidenum">
              <a:t>82</a:t>
            </a:fld>
          </a:p>
        </p:txBody>
      </p:sp>
    </p:spTree>
  </p:cSld>
  <p:transition spd="med">
    <p:dissolv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gnetic Quantum Numb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 orbitals are spherical, only one orientation, so m=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 orbitals, 3-D orientation, so m= -1, 0 or 1 (x, y, z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 orbitals, 5 orientations, m= -2,-1, 0, 1 or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15F-6E9B-4ECD-ACEF-D52C661FA121}" type="slidenum">
              <a:t>83</a:t>
            </a:fld>
          </a:p>
        </p:txBody>
      </p:sp>
    </p:spTree>
  </p:cSld>
  <p:transition spd="med">
    <p:dissolv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ectron Spin Quantum Number,m</a:t>
            </a:r>
            <a:r>
              <a:rPr b="0" i="1" lang="en-US" sz="3200" spc="-1" strike="noStrike" baseline="-25000">
                <a:solidFill>
                  <a:srgbClr val="40458c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0A41-C6B2-4F5E-B6BA-A2ED0E2B12E1}" type="slidenum">
              <a:t>84</a:t>
            </a:fld>
          </a:p>
        </p:txBody>
      </p:sp>
    </p:spTree>
  </p:cSld>
  <p:transition spd="med">
    <p:dissolv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um Numb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ectron Spin Quantum Number,m</a:t>
            </a:r>
            <a:r>
              <a:rPr b="0" i="1" lang="en-US" sz="3200" spc="-1" strike="noStrike" baseline="-25000">
                <a:solidFill>
                  <a:srgbClr val="40458c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lues of m</a:t>
            </a:r>
            <a:r>
              <a:rPr b="0" i="1" lang="en-US" sz="2800" spc="-1" strike="noStrike" baseline="-25000">
                <a:solidFill>
                  <a:srgbClr val="40458c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= +1/2 or –1/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- spin in only 1 or 2 direc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single orbital can hold a maximum of 2 e-, which must have opposite spi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7A3-28B6-48AA-BF3B-F46350E11E7B}" type="slidenum">
              <a:t>85</a:t>
            </a:fld>
          </a:p>
        </p:txBody>
      </p:sp>
    </p:spTree>
  </p:cSld>
  <p:transition spd="med">
    <p:dissolv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ctron Configur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ectron Configurations: arragenment of e- in an ato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re is a distinct electron configuration for each ato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re are 3 rules to writing electron configuration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8D38-23F6-4A07-AE2B-86648ABB3E09}" type="slidenum">
              <a:t>86</a:t>
            </a:fld>
          </a:p>
        </p:txBody>
      </p:sp>
    </p:spTree>
  </p:cSld>
  <p:transition spd="med">
    <p:dissolv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uli Exclusion Princi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No 2 e- in an atom can have the same set of four quantum numbers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i="1" lang="en-US" sz="3200" spc="-1" strike="noStrike" baseline="-30000">
                <a:solidFill>
                  <a:srgbClr val="40458c"/>
                </a:solidFill>
                <a:latin typeface="Tahoma"/>
                <a:ea typeface="Times New Roman"/>
              </a:rPr>
              <a:t>l</a:t>
            </a:r>
            <a:r>
              <a:rPr b="0" lang="en-US" sz="3200" spc="-1" strike="noStrike" baseline="-30000">
                <a:solidFill>
                  <a:srgbClr val="40458c"/>
                </a:solidFill>
                <a:latin typeface="Tahoma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m</a:t>
            </a:r>
            <a:r>
              <a:rPr b="0" lang="en-US" sz="3200" spc="-1" strike="noStrike" baseline="-30000">
                <a:solidFill>
                  <a:srgbClr val="40458c"/>
                </a:solidFill>
                <a:latin typeface="Tahoma"/>
                <a:ea typeface="Times New Roman"/>
              </a:rPr>
              <a:t>s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.  Therefore, no atomic orbital can contain more than 2 e-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6278-9902-4D8F-AFD5-BDBDE4187735}" type="slidenum">
              <a:t>87</a:t>
            </a:fld>
          </a:p>
        </p:txBody>
      </p:sp>
    </p:spTree>
  </p:cSld>
  <p:transition spd="med">
    <p:dissolv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ufbau Princi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ufbau Principle: an e- occupies the lowest energy orbital that can receive i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ufbau order: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566-D0FE-4938-BD4B-E2879E389610}" type="slidenum">
              <a:t>88</a:t>
            </a:fld>
          </a:p>
        </p:txBody>
      </p:sp>
    </p:spTree>
  </p:cSld>
  <p:transition spd="med">
    <p:dissolv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und’s Ru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und’s Rule: orbitals of equal energy are each occupied by one e- before any orbital is occupied by a second e-, and all e- in singly occupied orbitals must have the same sp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EC4-0B46-4D2D-9A26-713A8CEC5180}" type="slidenum">
              <a:t>89</a:t>
            </a:fld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therford’s Gold Foil Experiment (Conclusion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therford concluded that most of the mass of an atom is concentrated in a core, called the atomic nucleu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nucleus is positively charge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st of the volume of the atom is empty spac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AA98-B337-493F-B099-93404FB7DA07}" type="slidenum">
              <a:t>9</a:t>
            </a:fld>
          </a:p>
        </p:txBody>
      </p:sp>
    </p:spTree>
  </p:cSld>
  <p:transition spd="med">
    <p:dissolv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ctron Configur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total of the superscripts must equal the atomic number (number of electrons) of that atom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last symbol listed is the symbol for the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differentiating electr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17F-EC84-452A-B6DF-FFB86102B938}" type="slidenum">
              <a:t>90</a:t>
            </a:fld>
          </a:p>
        </p:txBody>
      </p:sp>
    </p:spTree>
  </p:cSld>
  <p:transition spd="med">
    <p:dissolv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fferentiating Electr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differentiating electron is the electron that is added which makes the configuration different from that of the preceding elemen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“last” electr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s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s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s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2s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s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2s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s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2s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2p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C60-5B78-41D1-927D-743A2A051E3B}" type="slidenum">
              <a:t>91</a:t>
            </a:fld>
          </a:p>
        </p:txBody>
      </p:sp>
    </p:spTree>
  </p:cSld>
  <p:transition spd="med">
    <p:dissolv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bital Diagra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se diagrams are based on the electron configurati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 orbital diagram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ach orbital (the space in an atom that will hold a pair of electrons) is show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opposite spins of the electron pair is indicate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862-04DF-4D7B-A24D-3303F4E75056}" type="slidenum">
              <a:t>92</a:t>
            </a:fld>
          </a:p>
        </p:txBody>
      </p:sp>
    </p:spTree>
  </p:cSld>
  <p:transition spd="med">
    <p:dissolv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bital Diagram Ru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present each electron by an arr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direction of the arrow represents the electron spi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raw an up arrow to show the first electron in each orbit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Hund’s Rul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 Distribute the electrons among the orbitals within sublevels so as to give the most unshared pair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ut one electron in each orbital of a sublevel before the second electron appea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lf filled sublevels are more stable than partially full sublevel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E18-8D37-442E-A688-C9FB8C84E859}" type="slidenum">
              <a:t>93</a:t>
            </a:fld>
          </a:p>
        </p:txBody>
      </p:sp>
    </p:spTree>
  </p:cSld>
  <p:transition spd="med">
    <p:dissolv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bital Diagram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_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_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s     2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__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__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s      2s          2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Symbol"/>
                <a:ea typeface="Symbol"/>
              </a:rPr>
              <a:t>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_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s     2s          2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C01-E794-42F9-AC35-153EE5B0C9F5}" type="slidenum">
              <a:t>94</a:t>
            </a:fld>
          </a:p>
        </p:txBody>
      </p:sp>
    </p:spTree>
  </p:cSld>
  <p:transition spd="med">
    <p:dissolv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ot Diagram of Valence Electr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en two atom collide, and a reaction takes place, only the outer electrons interac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se outer electrons are referred to as the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valence electron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cause of the overlaying of the sublevels in the larger atoms,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there are never more than eight valence electr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CD3-01DA-4980-A5A2-9141134950E5}" type="slidenum">
              <a:t>95</a:t>
            </a:fld>
          </a:p>
        </p:txBody>
      </p:sp>
    </p:spTree>
  </p:cSld>
  <p:transition spd="med">
    <p:dissolv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les for Dot Diagra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n-US" sz="9600" spc="-1" strike="noStrike">
                <a:solidFill>
                  <a:srgbClr val="40458c"/>
                </a:solidFill>
                <a:latin typeface="Tahoma"/>
              </a:rPr>
              <a:t>:Xy:</a:t>
            </a:r>
            <a:endParaRPr b="0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3886200" y="243828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0458c"/>
                </a:solidFill>
                <a:latin typeface="Tahoma"/>
              </a:rPr>
              <a:t>. .</a:t>
            </a:r>
            <a:endParaRPr b="0" lang="en-US" sz="9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09880" y="3809880"/>
            <a:ext cx="16765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415908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0458c"/>
                </a:solidFill>
                <a:latin typeface="Tahoma"/>
              </a:rPr>
              <a:t>. .</a:t>
            </a:r>
            <a:endParaRPr b="0" lang="en-US" sz="9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9920" y="411480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 sublevel electr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62520" y="281952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rbit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41911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rbita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38480" y="54864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rbit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A4C-A59B-47C7-868A-0CA6BD44C94A}" type="slidenum">
              <a:t>96</a:t>
            </a:fld>
          </a:p>
        </p:txBody>
      </p:sp>
    </p:spTree>
  </p:cSld>
  <p:transition spd="med">
    <p:dissolve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les for Dot Diagra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member:  the maximum number of valence electrons is 8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nly s and p sublevel electrons will ever be valence electron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ut the dots that represent the s and p electrons around the symbo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the same rule (Hund’s rule) as you fill the designated orbital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797-14B7-428C-8198-0442E65EEFCA}" type="slidenum">
              <a:t>97</a:t>
            </a:fld>
          </a:p>
        </p:txBody>
      </p:sp>
    </p:spTree>
  </p:cSld>
  <p:transition spd="med">
    <p:dissolve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s of Dot Diagra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89B-097A-47F8-B341-CF93DCD4D231}" type="slidenum">
              <a:t>98</a:t>
            </a:fld>
          </a:p>
        </p:txBody>
      </p:sp>
    </p:spTree>
  </p:cSld>
  <p:transition spd="med">
    <p:dissolv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s of Dot Diagra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X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Montgomery &amp; R.Smi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33A-187A-478F-AF30-45376FF411E0}" type="slidenum">
              <a:t>99</a:t>
            </a:fld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23:47:24Z</dcterms:created>
  <dc:creator>Profile</dc:creator>
  <dc:description/>
  <dc:language>en-US</dc:language>
  <cp:lastModifiedBy>marti andreski</cp:lastModifiedBy>
  <dcterms:modified xsi:type="dcterms:W3CDTF">2004-07-30T21:15:30Z</dcterms:modified>
  <cp:revision>45</cp:revision>
  <dc:subject/>
  <dc:title>Atomic Structure</dc:title>
</cp:coreProperties>
</file>